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88A-7528-4C55-B23D-1B5E6177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0D9-0D78-409C-9BF4-B38C4A23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A07-B091-46C4-AA78-B92F361B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50B-65C5-4C4F-B8D5-D92170C6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88E-E074-4AEF-9873-6665A853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8F4B-07B3-4EED-B79A-D9DB38F8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7E64-1406-4CB5-8E65-98C954C2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535-3F65-4029-B4B1-B28112C3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738D-26C8-4A46-8914-ACD8A857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409-3EFC-42AD-8A83-A90AEC5E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B02D-ABA1-4D9F-B989-DDFD761F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E4F-33C3-40DD-8234-6927B663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6F3A-85F7-44EF-8228-5EADC59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7280-F0B4-4F19-BF0E-A215A270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60D9-15FC-471A-B46B-ABA2306E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5982-02BE-4744-94DA-DAB5DB69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7290-BA3A-4A25-9234-4BD5B5BD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52F-1701-4A56-BBD1-2AAFB97C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032-7660-48F6-ADFD-08F8CCE5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8B8-4389-49E5-8920-0E28B5FE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FA6-5BE9-43E4-AF77-0B420A4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71E-6197-4538-98C3-65638E0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B5E-CE9D-49D2-9653-1B861078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BCD-C77E-492B-8B9D-22DB6F87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35E7-3CCA-42DB-B3E1-57F745D7A294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7722-7B71-469B-9D7E-42F9C2018B42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8280" y="4190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1" descr="comp_i"/>
          <p:cNvPicPr/>
          <p:nvPr/>
        </p:nvPicPr>
        <p:blipFill>
          <a:blip r:embed="rId1">
            <a:alphaModFix amt="62000"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13:43Z</dcterms:modified>
  <cp:revision>3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